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23D-BD6D-49F1-BBAA-0EA7083F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607-0C6F-440A-8D76-902978C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8CB-BE73-464A-A853-30A7597F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7EF-50D2-4E79-9BF6-3E8B9361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2AE-B3A0-4C65-8568-C153D217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E49-8267-4916-9C0A-95A4A8F6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1FE-BD77-4FC8-AD85-DDE2E43B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500-34E9-4B39-8586-F44A6676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CC9-9839-46DB-AE11-5BA1E7B3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B73-D372-4B9C-A0A6-43D68D3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55E-709D-4E65-85A7-6BC9A02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EDF-E681-42EF-8A1E-1C6935E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4101-884D-40FF-95F3-95CCE9E2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30:03Z</dcterms:modified>
  <cp:revision>3</cp:revision>
  <dc:subject/>
  <dc:title>Présentation PowerPoint</dc:title>
</cp:coreProperties>
</file>